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6659563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2038320" y="685440"/>
            <a:ext cx="2781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20EE-A532-45E2-8A8F-27F0B1567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0F0A-F77A-493A-A68E-16EE60FC9A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038320" y="685800"/>
            <a:ext cx="278136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5944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38588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3300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35944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38588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33000" y="327240"/>
            <a:ext cx="5993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35944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38588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3300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35944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38588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33000" y="327240"/>
            <a:ext cx="5993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4502160" cy="6049800"/>
            <a:chOff x="1079640" y="1079640"/>
            <a:chExt cx="4502160" cy="604980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4102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67644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68724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333072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521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5326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3994200" cy="5542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91"/>
          <p:cNvSpPr/>
          <p:nvPr/>
        </p:nvSpPr>
        <p:spPr>
          <a:xfrm>
            <a:off x="539280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2"/>
          <p:cNvSpPr/>
          <p:nvPr/>
        </p:nvSpPr>
        <p:spPr>
          <a:xfrm>
            <a:off x="5391000" y="695808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8"/>
          <p:cNvGrpSpPr/>
          <p:nvPr/>
        </p:nvGrpSpPr>
        <p:grpSpPr>
          <a:xfrm>
            <a:off x="1079640" y="1079640"/>
            <a:ext cx="4502160" cy="6049800"/>
            <a:chOff x="1079640" y="1079640"/>
            <a:chExt cx="4502160" cy="604980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4102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67644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68724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333072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5218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5326200" y="1079640"/>
              <a:ext cx="0" cy="604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3994200" cy="5542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91"/>
          <p:cNvSpPr/>
          <p:nvPr/>
        </p:nvSpPr>
        <p:spPr>
          <a:xfrm>
            <a:off x="539280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2"/>
          <p:cNvSpPr/>
          <p:nvPr/>
        </p:nvSpPr>
        <p:spPr>
          <a:xfrm>
            <a:off x="5391000" y="695808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6607080" cy="8080200"/>
            <a:chOff x="54000" y="54000"/>
            <a:chExt cx="6607080" cy="8080200"/>
          </a:xfrm>
        </p:grpSpPr>
        <p:grpSp>
          <p:nvGrpSpPr>
            <p:cNvPr id="67" name="Group 47"/>
            <p:cNvGrpSpPr/>
            <p:nvPr/>
          </p:nvGrpSpPr>
          <p:grpSpPr>
            <a:xfrm>
              <a:off x="54000" y="54000"/>
              <a:ext cx="6607080" cy="6715080"/>
              <a:chOff x="54000" y="54000"/>
              <a:chExt cx="6607080" cy="6715080"/>
            </a:xfrm>
          </p:grpSpPr>
          <p:grpSp>
            <p:nvGrpSpPr>
              <p:cNvPr id="68" name="Group 89"/>
              <p:cNvGrpSpPr/>
              <p:nvPr/>
            </p:nvGrpSpPr>
            <p:grpSpPr>
              <a:xfrm>
                <a:off x="61920" y="1547640"/>
                <a:ext cx="5049720" cy="5113440"/>
                <a:chOff x="61920" y="1547640"/>
                <a:chExt cx="5049720" cy="5113440"/>
              </a:xfrm>
            </p:grpSpPr>
            <p:sp>
              <p:nvSpPr>
                <p:cNvPr id="69" name="Rectangle 50"/>
                <p:cNvSpPr/>
                <p:nvPr/>
              </p:nvSpPr>
              <p:spPr>
                <a:xfrm>
                  <a:off x="1547640" y="1547640"/>
                  <a:ext cx="3564000" cy="511344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77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1" name="Line 78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79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80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4" name="Line 81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82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Group 90"/>
              <p:cNvGrpSpPr/>
              <p:nvPr/>
            </p:nvGrpSpPr>
            <p:grpSpPr>
              <a:xfrm>
                <a:off x="61920" y="1314360"/>
                <a:ext cx="5157720" cy="5454720"/>
                <a:chOff x="61920" y="1314360"/>
                <a:chExt cx="5157720" cy="5454720"/>
              </a:xfrm>
            </p:grpSpPr>
            <p:sp>
              <p:nvSpPr>
                <p:cNvPr id="77" name="Rectangle 58"/>
                <p:cNvSpPr/>
                <p:nvPr/>
              </p:nvSpPr>
              <p:spPr>
                <a:xfrm>
                  <a:off x="1440000" y="1440000"/>
                  <a:ext cx="3779640" cy="532908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85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9" name="Line 86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87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1" name="Picture 88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5653080" y="1440000"/>
                <a:ext cx="1008000" cy="2779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4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6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5×148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6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439640" y="7272360"/>
              <a:ext cx="3813120" cy="86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667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12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127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911240" indent="-210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911240" indent="-210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911240" indent="-210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2:43:29Z</dcterms:modified>
  <cp:revision>19</cp:revision>
  <dc:subject/>
  <dc:title>スライド 1</dc:title>
</cp:coreProperties>
</file>